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9DE-A605-47F9-89CF-C1DF421E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A8C-8315-4DEF-A062-23C76BB9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D9A-DD18-4F0F-8B15-B3F1963A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BDD-8CEC-4A88-A1FA-9FFD8CAA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D7F-238D-43F4-AA46-6C2000F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C7D-92F6-4298-B1FB-11054C83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D5F-9A7B-41CD-857A-A20B70FF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4FA-15BE-4B3A-95E0-0981F013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C59-E6B2-4741-A076-E868BF26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5F5-9AFB-43E7-A75A-C75AD987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93A-40BC-44CA-BC25-9E34086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347-5369-4F43-AC6B-66E62C0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DA6-FD73-4586-B573-91729FA46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s and console appl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fil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ad and write t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nipulate folder paths and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consol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= inFile.readLine ( 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 line ! = null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TextArea.append ( line + “ \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= inFile.readLine( );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le.close 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when the user clicks the ‘open’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a file name from the text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 a file with this name and inputs lines from file, appends to text area. If EOF not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Sear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 Do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Bell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7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. Bush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 … (note comma separ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found =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 ( morelines ) &amp;&amp; ( !  f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get firstField;  if ( firstField matches name) {found = true;  put rest of fields into test fields; }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shot page 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Search pages 324 - 3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ing of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:  import java.io.*;// need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: path  C:\temp\java\demo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/Linux separator = “/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ClassDemo program has single ‘Start’ button. Event handling code page 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( event.getSource ( ) = = startButton) {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class methods page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AbsolutePath – find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Name – extrac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Parent – find paren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– does file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Directory – is name a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– file size in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– fill array with list of file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FileChoos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function to word processors, dialog which allows browsing through folders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features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ChooserDemo pages 329-3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 chooser does not actually transfer any data into files the programmer must code that. It provides the program with details about the file the user sel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features of FileChoo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instance of JFileChoos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s the file chooser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OpenDialog or showSaveDi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returns a numeric code (has user cancelled dialog or n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FIleChooser.APPROVE_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electedFile method returns instance of File class (we use getAbsolutePath to obtain 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FileChooser can be used to ‘save’ or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Chooser = new JFileChooser 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y = fileChooser.showSaveDialog (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reply = = JFileChooser.APPROVE_OPTION) { selectedFile = fileChooser.getSelectedFile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Field.setText ( selectedFile.setAbsolutePath ( 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e I /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: on screen – scrolled up, next prompt appe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s – users could move cu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ing device (mouse for examp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can use all of the ab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nd GNU/Linux based on command lin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lass ConsoleDem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 (String [ 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 (“Hello World”); }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complet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.in  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BufferedReader keyBoard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Board = new BufferedReader ( new InputStreamReader (System.in) ) 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line = keyBoard.readLine 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reply = prompt (“type in your name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fl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assure any text sent with print displays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have already used an editor to create Java source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n operating system to view a hierarchical structure of directories (fold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will write programs to manipulat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.e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with print and print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err.print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Error … Program Terminating “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exit; // leav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error given by nemeric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(0) is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zero = something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age &gt; 0) { System.exit (0); //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 System.err.println ( “Error in program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exit(3); // error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ptionPa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to System I / O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lass ConsoleJOptionDem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 (String [ ] args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ptionPane.showMessage ( null, “Hello World”); }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e example: Finder program pages 335-336 program uses two console inputs, a file to search and the required substring. Uses System.in and a prompt i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 method used to search returns -1 if not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shot page 336 of F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from a remote si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TinyBrowser pages 337-3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s for 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s contents of file on scre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program concerned with exception handling and console I / O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code of Tiny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java.net.*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onnection to a 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urlAddress = new URL (urlString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Connection = urlAddress.openConnection 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eam = new BufferedReader ( new InputStreamReader ( connection.getInputStream ( ) 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alformedURLException may be thrown // bad URL not f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 of code page 339 FindWithA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ommitted part same as Finder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arguments from command line to FinderWith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c FinderWithArguments “C:\\temp\myFile.txt” “My interes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s: command line arguments same as parameters. ‘args’ = name of arr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s follow the program name after j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s[0] args[1] …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length can detect number of parameters passed into main “args.leng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RAM versus file storage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 faster, temporary, store programs as they exe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rive  flo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0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7G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-100G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.44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ccess: stream or 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over 20 classes for file access – each with its own particular set of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and Random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sequence of items processes one after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: we can skip to a particular byte position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d for data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ssentials of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pen the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read or input data from/into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close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from a file (in stream) we can only read the next item. To get to the last we must read all preceding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e ends with an EOLN. (end of line) character. The file ends with an EOF (end of file charac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I/O classes (input and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: BufferedReader, InputStreamReader, File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: PrintWriter, File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use   import java.io.*;  // to us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” = large chunk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fferedReader and PrintWriter cla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ine method of Buffered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s a whole line of text into a String (StringTokenizer can split that String into p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Writer class: print and println (lower case L) both write a String to a file. Println writes an EOLN character at the end after the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atenation operator + may be used to join the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output: bas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xt field to accept fil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ollable text area to accept text (allow copy, cut, pas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ve button to initiate transfer text from text area to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creenshot page 317 – FileOutputDem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317-3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PrintWriter out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le = new BufferedReader ( new BufferedReader (nameField.getText ( ) 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(( line = inFile.readLine ( ) ) ! = null) { … } inFile.close ( 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2:36:21Z</dcterms:created>
  <dc:creator> </dc:creator>
  <dc:description/>
  <dc:language>en-US</dc:language>
  <cp:lastModifiedBy> </cp:lastModifiedBy>
  <dcterms:modified xsi:type="dcterms:W3CDTF">2005-05-11T13:03:57Z</dcterms:modified>
  <cp:revision>5</cp:revision>
  <dc:subject/>
  <dc:title>Files and console applications Chapter 17</dc:title>
</cp:coreProperties>
</file>